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8CAB-87C2-46A5-AF46-67FC840F8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ength of GO is in the fact that the main axes of classification are precise. GO does not have terms for protein structures, phenotypes or pathological states/disease, cell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Osaka"/>
              </a:rPr>
              <a:t>provides a controlled set of terms for describing a gene. Annotation is completely distinct from building the ontology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groups had tried and failed before, what pitfalls could we avoid by learning from these less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ooth transition to 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nice to have this in graph form (SUZ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that queries in the GO for plasmatocyte differentiation will not return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otated to lamellocyte different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question: should the cell type ontology have a functional axis of classific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question: should the cell type ontology have a functional axis of classific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1058-F94E-420F-A947-F9EA655DC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A47B-59FC-4F1F-A33A-3FCFCE10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DF34-AC1C-488E-AF4D-7A7F0AAC2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2BD7-E9E4-4EB8-A464-8C3ED3016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AD44-3EA7-45B5-9941-ED7D0C58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1326-98AF-4066-99D2-55C21E38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54D6-8562-4A87-BE26-254E65C0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DD73-9949-4FCD-8C90-6E64C3B2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A0F7-4062-4405-A661-68CDC19F1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DD29-ED6F-4A84-AFDD-31205AEA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BBD3-D6CB-48FA-AEC6-3A369FC1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0028-BA00-4227-A4BC-6566813B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0FDD-83EB-49EF-9223-38514B41C186}" type="slidenum"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eneontology.org/" TargetMode="External"/><Relationship Id="rId2" Type="http://schemas.openxmlformats.org/officeDocument/2006/relationships/hyperlink" Target="http://www.godatabase.org/" TargetMode="External"/><Relationship Id="rId3" Type="http://schemas.openxmlformats.org/officeDocument/2006/relationships/hyperlink" Target="http://www.sourceforge.net/" TargetMode="External"/><Relationship Id="rId4" Type="http://schemas.openxmlformats.org/officeDocument/2006/relationships/hyperlink" Target="http://www.sourceforge.net/" TargetMode="External"/><Relationship Id="rId5" Type="http://schemas.openxmlformats.org/officeDocument/2006/relationships/hyperlink" Target="http://www.ucsc.edu/" TargetMode="External"/><Relationship Id="rId6" Type="http://schemas.openxmlformats.org/officeDocument/2006/relationships/hyperlink" Target="http://www.ncbi.nih.gov/" TargetMode="External"/><Relationship Id="rId7" Type="http://schemas.openxmlformats.org/officeDocument/2006/relationships/hyperlink" Target="http://www.ebi.ac.uk/" TargetMode="External"/><Relationship Id="rId8" Type="http://schemas.openxmlformats.org/officeDocument/2006/relationships/hyperlink" Target="http://www.sciencemag.org/" TargetMode="External"/><Relationship Id="rId9" Type="http://schemas.openxmlformats.org/officeDocument/2006/relationships/hyperlink" Target="http://www.ncbi.nlm.nih.gov/" TargetMode="External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Ontologies and Biomedicine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What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is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the "right" amount of </a:t>
            </a:r>
            <a:r>
              <a:rPr b="0" i="1" lang="en-US" sz="3200" spc="-1" strike="noStrike">
                <a:solidFill>
                  <a:srgbClr val="ffffff"/>
                </a:solidFill>
                <a:latin typeface="Century Gothic"/>
              </a:rPr>
              <a:t>semantics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8640" y="297000"/>
            <a:ext cx="8229600" cy="630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Univocity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443160" indent="0">
              <a:spcBef>
                <a:spcPts val="451"/>
              </a:spcBef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erms should have the same meanings on every occasion of us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Positivity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443160" indent="0">
              <a:spcBef>
                <a:spcPts val="451"/>
              </a:spcBef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erms such as ‘non-mammal’ or ‘non-membrane’ do not designate genuine classe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Objectivity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443160" indent="0">
              <a:spcBef>
                <a:spcPts val="451"/>
              </a:spcBef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erms such as ‘unknown’ or ‘unclassified’ or ‘unlocalized’ do not designate biological natural kind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Single Inheritance: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443160" indent="0">
              <a:spcBef>
                <a:spcPts val="451"/>
              </a:spcBef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No class in a classification hierarchy should have more than one is_a parent on the immediate higher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Intelligible Definitions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443160" indent="0">
              <a:spcBef>
                <a:spcPts val="451"/>
              </a:spcBef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e terms used in a definition should be simpler (more intelligible) than the term to be defined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Reality Based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443160" indent="0">
              <a:spcBef>
                <a:spcPts val="451"/>
              </a:spcBef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When building or maintaining an ontology, always think carefully at how classes relate to instances in realit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499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Distinguish Classes and Instances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443160" indent="0">
              <a:spcBef>
                <a:spcPts val="451"/>
              </a:spcBef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What is necessarily true for instances is not necessarily true for classe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Annotation bottleneck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n active lab can easily generate 10-100GB of data per month, and it is very difficult to manage data on this scale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ven the best analytic schemes will be for naught if we cannot find our data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nd the data is complex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entury Gothic"/>
              </a:rPr>
              <a:t>Yet, the annotation effort required will be utterly wasted if it cannot be </a:t>
            </a:r>
            <a:r>
              <a:rPr b="1" lang="en-US" sz="2800" spc="-1" strike="noStrike" u="sng">
                <a:solidFill>
                  <a:srgbClr val="ffcc66"/>
                </a:solidFill>
                <a:uFillTx/>
                <a:latin typeface="Century Gothic"/>
              </a:rPr>
              <a:t>reliably</a:t>
            </a:r>
            <a:r>
              <a:rPr b="0" lang="en-US" sz="2800" spc="-1" strike="noStrike">
                <a:solidFill>
                  <a:srgbClr val="ffcc66"/>
                </a:solidFill>
                <a:latin typeface="Century Gothic"/>
              </a:rPr>
              <a:t> computed upon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44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Implies numerous “</a:t>
            </a:r>
            <a:r>
              <a:rPr b="0" lang="en-US" sz="4400" spc="-1" strike="noStrike">
                <a:solidFill>
                  <a:srgbClr val="80ff00"/>
                </a:solidFill>
                <a:latin typeface="Century Gothic"/>
              </a:rPr>
              <a:t>light</a:t>
            </a: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” ontologie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3-dimension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rotein functio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ell typ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issu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tag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ellular componen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rganism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nd more…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Or it implies a single complex one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3-dimension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rotein funct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ell typ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issu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tag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ellular anatom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rganism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nd more…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lus all of the relations between these element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Practicalitie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ontology should be robust or the annotator’s time is waste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esearch won’t wait, data must be annotated at the rate at which it is generate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mplex ontologies are much more difficult to get right than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lighter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on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spcBef>
                <a:spcPts val="601"/>
              </a:spcBef>
              <a:buClr>
                <a:srgbClr val="80ff00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Light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ontologies are easier to build and maintai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mplex ontologies can be built from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lighter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on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A “successful” case study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Gene Ontolog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The aims of GO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o develop comprehensive shared vocabularies of terms describing aspects of molecular biology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o describe the gene products held in each contributing model organism database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o provide a scientific resource for access to the vocabularies, the annotations, and associated data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o provide a software resource to assist in curation of GO term assignments to biological object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The primary strength of the GO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 GO covers three domains of biolog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olecular Funct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Biological Proces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ellular Component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se are “precisely defined” axes of classificatio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The breakdown of work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600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ask 1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Building the ontology: a computable description of the biological world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ask 2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escribing your gene 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</a:rPr>
              <a:t>product—annotat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iological process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olecular function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ellular localizatio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Ontologies and Biomedicine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 “right” amount of semantics depends on what you want to do with i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The early key decision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vocabulary itself requires a serious and ongoing effort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arefully define every concep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itially keep things as simple as possible and only use a minimally sufficient data representation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cus initially on molecular aspects that are shared between many organisms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GO databases: distributed and centralized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upport cross-database queri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y having a mutual understanding of the definition and meaning of any word used to describe a gene produc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rovide database access to a common repository of annotation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y submitting a summary of gene products that have been annotate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3429000" y="1928880"/>
            <a:ext cx="2465280" cy="2036520"/>
            <a:chOff x="3429000" y="1928880"/>
            <a:chExt cx="2465280" cy="2036520"/>
          </a:xfrm>
        </p:grpSpPr>
        <p:sp>
          <p:nvSpPr>
            <p:cNvPr id="100" name=""/>
            <p:cNvSpPr/>
            <p:nvPr/>
          </p:nvSpPr>
          <p:spPr>
            <a:xfrm>
              <a:off x="3429000" y="1928880"/>
              <a:ext cx="2465280" cy="2036520"/>
            </a:xfrm>
            <a:prstGeom prst="pie">
              <a:avLst/>
            </a:prstGeom>
            <a:solidFill>
              <a:srgbClr val="90908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64080" tIns="17640" bIns="176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29000" y="2247840"/>
              <a:ext cx="2465280" cy="3189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64080" tIns="17640" bIns="176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920760" y="2859840"/>
              <a:ext cx="1481040" cy="49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64440" tIns="18000" bIns="18000" anchor="ctr">
              <a:spAutoFit/>
            </a:bodyPr>
            <a:p>
              <a:pPr marL="4608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GO CVS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616800" y="374760"/>
            <a:ext cx="1982520" cy="1662120"/>
            <a:chOff x="6616800" y="374760"/>
            <a:chExt cx="1982520" cy="1662120"/>
          </a:xfrm>
        </p:grpSpPr>
        <p:sp>
          <p:nvSpPr>
            <p:cNvPr id="104" name=""/>
            <p:cNvSpPr/>
            <p:nvPr/>
          </p:nvSpPr>
          <p:spPr>
            <a:xfrm>
              <a:off x="6616800" y="374760"/>
              <a:ext cx="1982520" cy="1662120"/>
            </a:xfrm>
            <a:prstGeom prst="pie">
              <a:avLst/>
            </a:prstGeom>
            <a:solidFill>
              <a:srgbClr val="90908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64080" tIns="17640" bIns="176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616800" y="634680"/>
              <a:ext cx="1982520" cy="2613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64080" tIns="17640" bIns="176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224120" y="1090080"/>
              <a:ext cx="769320" cy="49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64440" tIns="18000" bIns="18000" anchor="ctr">
              <a:spAutoFit/>
            </a:bodyPr>
            <a:p>
              <a:pPr marL="4608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FTP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522960" y="4768920"/>
            <a:ext cx="2276640" cy="1768320"/>
            <a:chOff x="3522960" y="4768920"/>
            <a:chExt cx="2276640" cy="1768320"/>
          </a:xfrm>
        </p:grpSpPr>
        <p:sp>
          <p:nvSpPr>
            <p:cNvPr id="108" name=""/>
            <p:cNvSpPr/>
            <p:nvPr/>
          </p:nvSpPr>
          <p:spPr>
            <a:xfrm>
              <a:off x="3643200" y="4768920"/>
              <a:ext cx="2036880" cy="1768320"/>
            </a:xfrm>
            <a:prstGeom prst="pie">
              <a:avLst/>
            </a:prstGeom>
            <a:solidFill>
              <a:srgbClr val="90908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64080" tIns="17640" bIns="176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43200" y="5045760"/>
              <a:ext cx="2036880" cy="27792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64080" tIns="17640" bIns="176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2960" y="5317560"/>
              <a:ext cx="2276640" cy="95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64440" tIns="18000" bIns="18000" anchor="ctr">
              <a:spAutoFit/>
            </a:bodyPr>
            <a:p>
              <a:pPr marL="4608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Anonymous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  <a:p>
              <a:pPr marL="4608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CVS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74760" y="160200"/>
            <a:ext cx="2465280" cy="1874880"/>
            <a:chOff x="374760" y="160200"/>
            <a:chExt cx="2465280" cy="1874880"/>
          </a:xfrm>
        </p:grpSpPr>
        <p:sp>
          <p:nvSpPr>
            <p:cNvPr id="112" name=""/>
            <p:cNvSpPr/>
            <p:nvPr/>
          </p:nvSpPr>
          <p:spPr>
            <a:xfrm>
              <a:off x="374760" y="160200"/>
              <a:ext cx="2465280" cy="1874880"/>
            </a:xfrm>
            <a:prstGeom prst="pie">
              <a:avLst/>
            </a:prstGeom>
            <a:solidFill>
              <a:srgbClr val="90908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720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21400" y="160200"/>
              <a:ext cx="408600" cy="187488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720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06800" y="869040"/>
              <a:ext cx="1992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7200" tIns="0" bIns="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GO data     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483240" y="4124160"/>
            <a:ext cx="2195640" cy="2036880"/>
            <a:chOff x="6483240" y="4124160"/>
            <a:chExt cx="2195640" cy="2036880"/>
          </a:xfrm>
        </p:grpSpPr>
        <p:sp>
          <p:nvSpPr>
            <p:cNvPr id="116" name=""/>
            <p:cNvSpPr/>
            <p:nvPr/>
          </p:nvSpPr>
          <p:spPr>
            <a:xfrm>
              <a:off x="6483240" y="4124160"/>
              <a:ext cx="2195640" cy="2036880"/>
            </a:xfrm>
            <a:prstGeom prst="pie">
              <a:avLst/>
            </a:prstGeom>
            <a:solidFill>
              <a:srgbClr val="90908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764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952680" y="4914720"/>
              <a:ext cx="1250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7640" tIns="0" bIns="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HTTPD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340160" y="803160"/>
            <a:ext cx="1660680" cy="911520"/>
          </a:xfrm>
          <a:prstGeom prst="pie">
            <a:avLst/>
          </a:prstGeom>
          <a:solidFill>
            <a:srgbClr val="f91f1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313160" y="4125960"/>
            <a:ext cx="696960" cy="534960"/>
            <a:chOff x="4313160" y="4125960"/>
            <a:chExt cx="696960" cy="534960"/>
          </a:xfrm>
        </p:grpSpPr>
        <p:sp>
          <p:nvSpPr>
            <p:cNvPr id="120" name=""/>
            <p:cNvSpPr/>
            <p:nvPr/>
          </p:nvSpPr>
          <p:spPr>
            <a:xfrm>
              <a:off x="4313160" y="4125960"/>
              <a:ext cx="696960" cy="534960"/>
            </a:xfrm>
            <a:prstGeom prst="pie">
              <a:avLst/>
            </a:prstGeom>
            <a:solidFill>
              <a:srgbClr val="fa21e7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487400" y="4125960"/>
              <a:ext cx="348480" cy="4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rot="10800000">
            <a:off x="1098720" y="2303280"/>
            <a:ext cx="2062080" cy="965160"/>
          </a:xfrm>
          <a:prstGeom prst="pie">
            <a:avLst/>
          </a:prstGeom>
          <a:solidFill>
            <a:srgbClr val="25f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19800" y="2465280"/>
            <a:ext cx="776520" cy="1285920"/>
          </a:xfrm>
          <a:prstGeom prst="pie">
            <a:avLst/>
          </a:prstGeom>
          <a:solidFill>
            <a:srgbClr val="f91f1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3375000"/>
            <a:ext cx="2089080" cy="739800"/>
          </a:xfrm>
          <a:prstGeom prst="pie">
            <a:avLst/>
          </a:prstGeom>
          <a:solidFill>
            <a:srgbClr val="1e42e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88960" y="4286160"/>
            <a:ext cx="2062080" cy="1123920"/>
            <a:chOff x="588960" y="4286160"/>
            <a:chExt cx="2062080" cy="1123920"/>
          </a:xfrm>
        </p:grpSpPr>
        <p:sp>
          <p:nvSpPr>
            <p:cNvPr id="126" name=""/>
            <p:cNvSpPr/>
            <p:nvPr/>
          </p:nvSpPr>
          <p:spPr>
            <a:xfrm>
              <a:off x="588960" y="4286160"/>
              <a:ext cx="2062080" cy="1123920"/>
            </a:xfrm>
            <a:prstGeom prst="pie">
              <a:avLst/>
            </a:prstGeom>
            <a:solidFill>
              <a:srgbClr val="90908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64080" tIns="26640" bIns="266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55440" y="4592520"/>
              <a:ext cx="133056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64440" tIns="26640" bIns="26640" anchor="ctr">
              <a:spAutoFit/>
            </a:bodyPr>
            <a:p>
              <a:pPr marL="3636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Scripts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642960" y="1928880"/>
            <a:ext cx="2465280" cy="2036520"/>
            <a:chOff x="642960" y="1928880"/>
            <a:chExt cx="2465280" cy="2036520"/>
          </a:xfrm>
        </p:grpSpPr>
        <p:sp>
          <p:nvSpPr>
            <p:cNvPr id="129" name=""/>
            <p:cNvSpPr/>
            <p:nvPr/>
          </p:nvSpPr>
          <p:spPr>
            <a:xfrm>
              <a:off x="642960" y="1928880"/>
              <a:ext cx="2465280" cy="2036520"/>
            </a:xfrm>
            <a:prstGeom prst="pie">
              <a:avLst/>
            </a:prstGeom>
            <a:solidFill>
              <a:srgbClr val="90908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64080" tIns="17640" bIns="176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2960" y="2247840"/>
              <a:ext cx="2465280" cy="3189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640" rIns="64080" tIns="17640" bIns="176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35080" y="2859840"/>
              <a:ext cx="1481040" cy="49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64440" tIns="18000" bIns="18000" anchor="ctr">
              <a:spAutoFit/>
            </a:bodyPr>
            <a:p>
              <a:pPr marL="4608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GO CVS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339920" y="588960"/>
            <a:ext cx="3643200" cy="911160"/>
          </a:xfrm>
          <a:prstGeom prst="pie">
            <a:avLst/>
          </a:prstGeom>
          <a:solidFill>
            <a:srgbClr val="f91f1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18400" y="2571840"/>
            <a:ext cx="776160" cy="1554120"/>
          </a:xfrm>
          <a:prstGeom prst="pie">
            <a:avLst/>
          </a:prstGeom>
          <a:solidFill>
            <a:srgbClr val="f91f1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680080" y="214200"/>
            <a:ext cx="3052800" cy="2035440"/>
            <a:chOff x="5680080" y="214200"/>
            <a:chExt cx="3052800" cy="2035440"/>
          </a:xfrm>
        </p:grpSpPr>
        <p:sp>
          <p:nvSpPr>
            <p:cNvPr id="135" name=""/>
            <p:cNvSpPr/>
            <p:nvPr/>
          </p:nvSpPr>
          <p:spPr>
            <a:xfrm>
              <a:off x="5680080" y="214200"/>
              <a:ext cx="3052800" cy="2035440"/>
            </a:xfrm>
            <a:prstGeom prst="pie">
              <a:avLst/>
            </a:prstGeom>
            <a:solidFill>
              <a:srgbClr val="1e42e4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64080" tIns="26640" bIns="2664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97240" y="976680"/>
              <a:ext cx="2420280" cy="51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" rIns="64440" tIns="26640" bIns="26640" anchor="ctr">
              <a:spAutoFit/>
            </a:bodyPr>
            <a:p>
              <a:pPr marL="3636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Many Scripts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5813280" y="4554360"/>
            <a:ext cx="2784600" cy="1820880"/>
            <a:chOff x="5813280" y="4554360"/>
            <a:chExt cx="2784600" cy="1820880"/>
          </a:xfrm>
        </p:grpSpPr>
        <p:sp>
          <p:nvSpPr>
            <p:cNvPr id="138" name=""/>
            <p:cNvSpPr/>
            <p:nvPr/>
          </p:nvSpPr>
          <p:spPr>
            <a:xfrm>
              <a:off x="5813280" y="4554360"/>
              <a:ext cx="2784600" cy="1820880"/>
            </a:xfrm>
            <a:prstGeom prst="pie">
              <a:avLst/>
            </a:prstGeom>
            <a:solidFill>
              <a:srgbClr val="25f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764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00760" y="5236200"/>
              <a:ext cx="2608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8000" tIns="0" bIns="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GO Database</a:t>
              </a: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	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571840" y="4687920"/>
            <a:ext cx="2089080" cy="1552680"/>
            <a:chOff x="2571840" y="4687920"/>
            <a:chExt cx="2089080" cy="1552680"/>
          </a:xfrm>
        </p:grpSpPr>
        <p:sp>
          <p:nvSpPr>
            <p:cNvPr id="141" name=""/>
            <p:cNvSpPr/>
            <p:nvPr/>
          </p:nvSpPr>
          <p:spPr>
            <a:xfrm>
              <a:off x="2571840" y="4687920"/>
              <a:ext cx="2089080" cy="1552680"/>
            </a:xfrm>
            <a:prstGeom prst="pie">
              <a:avLst/>
            </a:prstGeom>
            <a:solidFill>
              <a:srgbClr val="fa21e7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764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57400" y="5235480"/>
              <a:ext cx="1310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17640" tIns="0" bIns="0" anchor="ctr">
              <a:spAutoFit/>
            </a:bodyPr>
            <a:p>
              <a:pPr marL="17640" algn="ctr">
                <a:lnSpc>
                  <a:spcPct val="100000"/>
                </a:lnSpc>
                <a:tabLst>
                  <a:tab algn="l" pos="0"/>
                  <a:tab algn="l" pos="642960"/>
                  <a:tab algn="l" pos="1285920"/>
                  <a:tab algn="l" pos="1928880"/>
                  <a:tab algn="l" pos="2571840"/>
                  <a:tab algn="l" pos="3214800"/>
                  <a:tab algn="l" pos="3857760"/>
                  <a:tab algn="l" pos="4500720"/>
                  <a:tab algn="l" pos="5143680"/>
                  <a:tab algn="l" pos="5786280"/>
                  <a:tab algn="l" pos="6429240"/>
                  <a:tab algn="l" pos="7072200"/>
                  <a:tab algn="l" pos="7715160"/>
                  <a:tab algn="l" pos="8358120"/>
                  <a:tab algn="l" pos="9001080"/>
                  <a:tab algn="l" pos="9644040"/>
                  <a:tab algn="l" pos="10287000"/>
                  <a:tab algn="l" pos="1092996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Gill Sans"/>
                  <a:ea typeface="Gill Sans"/>
                </a:rPr>
                <a:t>AmiGO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4983120" y="5224320"/>
            <a:ext cx="428760" cy="4813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93520" y="0"/>
            <a:ext cx="7358040" cy="1347840"/>
          </a:xfrm>
          <a:prstGeom prst="rect">
            <a:avLst/>
          </a:prstGeom>
          <a:noFill/>
          <a:ln w="0">
            <a:noFill/>
          </a:ln>
        </p:spPr>
        <p:txBody>
          <a:bodyPr lIns="96480" rIns="115560" tIns="0" bIns="0" anchor="ctr">
            <a:noAutofit/>
          </a:bodyPr>
          <a:p>
            <a:pPr indent="0" algn="ctr">
              <a:buNone/>
              <a:tabLst>
                <a:tab algn="l" pos="0"/>
                <a:tab algn="l" pos="1574640"/>
                <a:tab algn="l" pos="18669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GODatabase.org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751800" y="2142720"/>
            <a:ext cx="2303280" cy="3483000"/>
          </a:xfrm>
          <a:prstGeom prst="rect">
            <a:avLst/>
          </a:prstGeom>
          <a:noFill/>
          <a:ln w="0">
            <a:noFill/>
          </a:ln>
        </p:spPr>
        <p:txBody>
          <a:bodyPr lIns="32040" rIns="32040" tIns="0" bIns="0" anchor="ctr">
            <a:normAutofit/>
          </a:bodyPr>
          <a:p>
            <a:pPr marL="774720" indent="-716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71000"/>
              <a:buFont typeface="Wingdings" charset="2"/>
              <a:buChar char=""/>
              <a:tabLst>
                <a:tab algn="l" pos="444600"/>
                <a:tab algn="l" pos="533520"/>
                <a:tab algn="l" pos="121932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Hits   = 77,012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774720" indent="-716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71000"/>
              <a:buFont typeface="Wingdings" charset="2"/>
              <a:buChar char=""/>
              <a:tabLst>
                <a:tab algn="l" pos="444600"/>
                <a:tab algn="l" pos="533520"/>
                <a:tab algn="l" pos="121932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Visits = 14,063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774720" indent="-716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71000"/>
              <a:buFont typeface="Wingdings" charset="2"/>
              <a:buChar char=""/>
              <a:tabLst>
                <a:tab algn="l" pos="444600"/>
                <a:tab algn="l" pos="533520"/>
                <a:tab algn="l" pos="121932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ites  =  6,638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774720" indent="-7160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171000"/>
              <a:buFont typeface="Wingdings" charset="2"/>
              <a:buChar char=""/>
              <a:tabLst>
                <a:tab algn="l" pos="444600"/>
                <a:tab algn="l" pos="533520"/>
                <a:tab algn="l" pos="121932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Averages per week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1500120"/>
            <a:ext cx="6419880" cy="474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341280" y="1225440"/>
          <a:ext cx="8886960" cy="495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1225440"/>
                    <a:ext cx="888696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538280" y="1179360"/>
            <a:ext cx="5816880" cy="54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8440" tIns="0" bIns="0" anchor="t">
            <a:spAutoFit/>
          </a:bodyPr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Gill Sans"/>
                <a:ea typeface="Gill Sans"/>
                <a:hlinkClick r:id="rId1"/>
              </a:rPr>
              <a:t>www.geneontology.or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  <a:ea typeface="Gill Sans"/>
              </a:rPr>
              <a:t>  7,2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Gill Sans"/>
                <a:ea typeface="Gill Sans"/>
                <a:hlinkClick r:id="rId2"/>
              </a:rPr>
              <a:t>www.godatabase.or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  <a:ea typeface="Gill Sans"/>
              </a:rPr>
              <a:t>  3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Gill Sans"/>
                <a:ea typeface="Gill Sans"/>
                <a:hlinkClick r:id="rId3"/>
              </a:rPr>
              <a:t>obo.sourceforge.ne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  <a:ea typeface="Gill Sans"/>
              </a:rPr>
              <a:t> 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Gill Sans"/>
                <a:ea typeface="Gill Sans"/>
                <a:hlinkClick r:id="rId4"/>
              </a:rPr>
              <a:t>song.sourceforge.ne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  <a:ea typeface="Gill Sans"/>
              </a:rPr>
              <a:t> 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Gill Sans"/>
                <a:ea typeface="Gill Sans"/>
                <a:hlinkClick r:id="rId5"/>
              </a:rPr>
              <a:t>genome.ucsc.edu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  <a:ea typeface="Gill Sans"/>
              </a:rPr>
              <a:t>  3,67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Gill Sans"/>
                <a:ea typeface="Gill Sans"/>
                <a:hlinkClick r:id="rId6"/>
              </a:rPr>
              <a:t>www.ncbi.nih.gov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  <a:ea typeface="Gill Sans"/>
              </a:rPr>
              <a:t>  12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Gill Sans"/>
                <a:ea typeface="Gill Sans"/>
                <a:hlinkClick r:id="rId7"/>
              </a:rPr>
              <a:t>www.ebi.ac.uk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  <a:ea typeface="Gill Sans"/>
              </a:rPr>
              <a:t>  14,9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Gill Sans"/>
                <a:ea typeface="Gill Sans"/>
                <a:hlinkClick r:id="rId8"/>
              </a:rPr>
              <a:t>sciencemag.or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  <a:ea typeface="Gill Sans"/>
              </a:rPr>
              <a:t>  14,9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Gill Sans"/>
                <a:ea typeface="Gill Sans"/>
                <a:hlinkClick r:id="rId9"/>
              </a:rPr>
              <a:t>www.ncbi.nlm.nih.gov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  <a:ea typeface="Gill Sans"/>
              </a:rPr>
              <a:t>  34,5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111960" y="374760"/>
            <a:ext cx="9207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8440" tIns="0" bIns="0" anchor="t">
            <a:spAutoFit/>
          </a:bodyPr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Number of links to a site: as reported by Goog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42760" y="1447920"/>
            <a:ext cx="7460640" cy="49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8440" tIns="0" bIns="0" anchor="t">
            <a:spAutoFit/>
          </a:bodyPr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72020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6810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transpor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56862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5524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ATP bind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53622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19012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vir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47773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6955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immune respons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46943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3677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DNA bind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41474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6508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proteolysis and peptidolysis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41126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6355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regulation of transcription, DNA-dependen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40427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4872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receptor activit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34943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5215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transporter activit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30890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7186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-protein coupled receptor protein signaling pathwa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30001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3700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transcription factor activit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28127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6118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electron transpor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26636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5509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calcium ion bind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24007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6968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cellular defense response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21250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16486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peptide hormone process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20440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8152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metabolis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19742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5515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protein bindin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19316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7155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cell adhesi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18254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GO:0005198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	</a:t>
            </a:r>
            <a:r>
              <a:rPr b="0" lang="en-US" sz="1700" spc="-1" strike="noStrike">
                <a:solidFill>
                  <a:srgbClr val="ffffff"/>
                </a:solidFill>
                <a:latin typeface="Gill Sans"/>
                <a:ea typeface="Gill Sans"/>
              </a:rPr>
              <a:t>structural molecule activity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47000" y="493560"/>
            <a:ext cx="765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8440" tIns="0" bIns="0" anchor="t">
            <a:spAutoFit/>
          </a:bodyPr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Most Common GOIDs accessed via AmiG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125360" y="781200"/>
            <a:ext cx="7018560" cy="57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8440" tIns="0" bIns="0" anchor="t">
            <a:noAutofit/>
          </a:bodyPr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Arabidopsis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TAIR, taxon:3702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Caenorhabditis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WormBase, taxon:6239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Candida albicans: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 CGD, taxon:5476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Danio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ZFIN, taxon:7955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Dictyostelium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DictyBase, taxon:5782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Drosophila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FlyBase, taxon:7227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Mus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MGI, taxon:10090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Oryza sativa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Gramene, taxon:39947 = </a:t>
            </a: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Oryza sativa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 (japonica  cultivar-group);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Rattus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RGD, taxon:10116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Saccharomyces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SGD, taxon:4932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Leishmania major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GeneDB, taxon:5664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Plasmodium falciparum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GeneDB, taxon:5833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Schizosaccharomyces pombe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GeneDB, taxon:4896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Trypanosoma brucei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GeneDB, taxon:185431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Bacillus anthracis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TIGR, taxon:198094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Coxiella burnetii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TIGR, taxon:227377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Geobacter sulfurreducens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TIGR, taxon:243231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Listeria monocytogenes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TIGR, taxon:265669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Methylococcus capsulatus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TIGR, taxon:243233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Pseudomonas syringae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TIGR, taxon:223283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Shewanella oneidensis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TIGR, taxon:211586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28440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i="1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Vibrio cholerae</a:t>
            </a:r>
            <a:r>
              <a:rPr b="0" lang="en-US" sz="1700" spc="-1" strike="noStrike">
                <a:solidFill>
                  <a:srgbClr val="ffffff"/>
                </a:solidFill>
                <a:latin typeface="Hoefler Text"/>
                <a:ea typeface="Hoefler Text"/>
              </a:rPr>
              <a:t>: TIGR, taxon:686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10280" y="128520"/>
            <a:ext cx="587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8440" tIns="0" bIns="0" anchor="t">
            <a:spAutoFit/>
          </a:bodyPr>
          <a:p>
            <a:pPr marL="28440" algn="ctr">
              <a:lnSpc>
                <a:spcPct val="100000"/>
              </a:lnSpc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ill Sans"/>
                <a:ea typeface="Gill Sans"/>
              </a:rPr>
              <a:t>Taxon covered by the GO (some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4372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d1cb"/>
                </a:solidFill>
                <a:latin typeface="Century Gothic"/>
              </a:rPr>
              <a:t>NIH-funded experimental research that uses the GO</a:t>
            </a:r>
            <a:endParaRPr b="0" lang="en-US" sz="36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682280"/>
            <a:ext cx="4495680" cy="48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Institute on Aging (NIA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Institute of Allergy and Infectious Diseases (NIAID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Cancer Institute (NCI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Institute on Drug Abuse (NIDA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Institute on Deafness and Other Communication Disorders (NIDCD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Institute of Dental &amp; Craniofacial Research (NIDCR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Institute of Diabetes and Digestive and Kidney Diseases (NIDDK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Institute of Biomedical Imaging and Bioengineering (NIBIB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8320" y="1682280"/>
            <a:ext cx="4495680" cy="49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Institute of Environmental Health Sciences (NIEHS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Eye Institute (NEI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Institute of General Medical Sciences (NIGMS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Institute of Child Health and Human Development (NICHD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Human Genome Research Institute (NHGRI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Heart, Lung and Blood Institute (NHLBI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Library of Medicine (NLM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Institute of Neurological Disorders and Stroke (NINDS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Century Gothic"/>
              </a:rPr>
              <a:t>National Center for Research Resources (NCRR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Ontologies and Biomedicine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Century Gothic"/>
              </a:rPr>
              <a:t>Research</a:t>
            </a: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 is based on inference from what is known, and therefore it </a:t>
            </a:r>
            <a:r>
              <a:rPr b="1" lang="en-US" sz="3600" spc="-1" strike="noStrike">
                <a:solidFill>
                  <a:srgbClr val="ffcc66"/>
                </a:solidFill>
                <a:latin typeface="Century Gothic"/>
              </a:rPr>
              <a:t>demands rigor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Other funded experimental projects that use the GO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32524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Century Gothic"/>
              </a:rPr>
              <a:t>Public Heath Servic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Century Gothic"/>
              </a:rPr>
              <a:t>Walter Reed Army Medical Center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Century Gothic"/>
              </a:rPr>
              <a:t>United States Department of Agricultur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Century Gothic"/>
              </a:rPr>
              <a:t>Department of Defens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Century Gothic"/>
              </a:rPr>
              <a:t>USAID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00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66"/>
                </a:solidFill>
                <a:latin typeface="Century Gothic"/>
              </a:rPr>
              <a:t>National Science Foundation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A “successful” case study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re are still challenges to mee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d1cb"/>
                </a:solidFill>
                <a:latin typeface="Century Gothic"/>
              </a:rPr>
              <a:t>Building upon (sharing) </a:t>
            </a:r>
            <a:r>
              <a:rPr b="0" lang="en-US" sz="3600" spc="-1" strike="noStrike">
                <a:solidFill>
                  <a:srgbClr val="80ff00"/>
                </a:solidFill>
                <a:latin typeface="Century Gothic"/>
              </a:rPr>
              <a:t>light</a:t>
            </a:r>
            <a:r>
              <a:rPr b="0" lang="en-US" sz="3600" spc="-1" strike="noStrike">
                <a:solidFill>
                  <a:srgbClr val="d1d1cb"/>
                </a:solidFill>
                <a:latin typeface="Century Gothic"/>
              </a:rPr>
              <a:t>, axiomatic ontologies eliminates:</a:t>
            </a:r>
            <a:endParaRPr b="0" lang="en-US" sz="36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pelling mistakes or differenc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Century Gothic"/>
              </a:rPr>
              <a:t>oesinophil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vs. eosinophi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ifferences in synonyms, names or naming convention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permatazoon, sperm cell, spermatozoid, sper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ifferences in definition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990720" indent="-533520">
              <a:spcBef>
                <a:spcPts val="499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ericardial cell </a:t>
            </a:r>
            <a:r>
              <a:rPr b="0" i="1" lang="en-US" sz="2000" spc="-1" strike="noStrike">
                <a:solidFill>
                  <a:srgbClr val="ffffff"/>
                </a:solidFill>
                <a:latin typeface="Courier New"/>
              </a:rPr>
              <a:t>develops_from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mesodermal cell vs.</a:t>
            </a:r>
            <a:r>
              <a:rPr b="0" i="1" lang="en-US" sz="20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Century Gothic"/>
              </a:rPr>
              <a:t>   </a:t>
            </a:r>
            <a:r>
              <a:rPr b="0" i="1" lang="en-US" sz="2000" spc="-1" strike="noStrike">
                <a:solidFill>
                  <a:srgbClr val="d1d1cb"/>
                </a:solidFill>
                <a:latin typeface="Century Gothic"/>
              </a:rPr>
              <a:t>Nothing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evelops_from 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ericardial cel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entury Gothic"/>
              </a:rPr>
              <a:t>Inconsistent structur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848040" y="4170240"/>
            <a:ext cx="1981440" cy="119124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lamellocyt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different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68320" y="4170240"/>
            <a:ext cx="2111400" cy="119124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plasmatocyt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different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28600" y="2800440"/>
            <a:ext cx="4572000" cy="78876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hemocyt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differenti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sensu Arthropoda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93840" y="2249640"/>
            <a:ext cx="1595160" cy="459720"/>
          </a:xfrm>
          <a:prstGeom prst="rect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hemocy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584400" y="5328000"/>
            <a:ext cx="1814400" cy="459720"/>
          </a:xfrm>
          <a:prstGeom prst="rect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lamellocy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82600" y="3819600"/>
            <a:ext cx="1817640" cy="459720"/>
          </a:xfrm>
          <a:prstGeom prst="rect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plasmocy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0" name=""/>
          <p:cNvCxnSpPr>
            <a:stCxn id="169" idx="0"/>
            <a:endCxn id="167" idx="2"/>
          </p:cNvCxnSpPr>
          <p:nvPr/>
        </p:nvCxnSpPr>
        <p:spPr>
          <a:xfrm flipV="1">
            <a:off x="7490880" y="2712240"/>
            <a:ext cx="1080" cy="1104120"/>
          </a:xfrm>
          <a:prstGeom prst="straightConnector1">
            <a:avLst/>
          </a:prstGeom>
          <a:ln w="38160">
            <a:solidFill>
              <a:srgbClr val="809ea8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8" idx="0"/>
            <a:endCxn id="169" idx="2"/>
          </p:cNvCxnSpPr>
          <p:nvPr/>
        </p:nvCxnSpPr>
        <p:spPr>
          <a:xfrm flipV="1">
            <a:off x="7490880" y="4282200"/>
            <a:ext cx="1080" cy="1042200"/>
          </a:xfrm>
          <a:prstGeom prst="straightConnector1">
            <a:avLst/>
          </a:prstGeom>
          <a:ln w="38160">
            <a:solidFill>
              <a:srgbClr val="809ea8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64" idx="0"/>
            <a:endCxn id="166" idx="2"/>
          </p:cNvCxnSpPr>
          <p:nvPr/>
        </p:nvCxnSpPr>
        <p:spPr>
          <a:xfrm flipH="1" flipV="1">
            <a:off x="3414240" y="3592080"/>
            <a:ext cx="1424880" cy="758160"/>
          </a:xfrm>
          <a:prstGeom prst="straightConnector1">
            <a:avLst/>
          </a:prstGeom>
          <a:ln w="38160">
            <a:solidFill>
              <a:srgbClr val="809ea8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5" idx="0"/>
            <a:endCxn id="166" idx="2"/>
          </p:cNvCxnSpPr>
          <p:nvPr/>
        </p:nvCxnSpPr>
        <p:spPr>
          <a:xfrm flipV="1">
            <a:off x="1924200" y="3592080"/>
            <a:ext cx="1491120" cy="758160"/>
          </a:xfrm>
          <a:prstGeom prst="straightConnector1">
            <a:avLst/>
          </a:prstGeom>
          <a:ln w="38160">
            <a:solidFill>
              <a:srgbClr val="809ea8"/>
            </a:solidFill>
            <a:miter/>
            <a:tailEnd len="med" type="triangle" w="med"/>
          </a:ln>
        </p:spPr>
      </p:cxn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Inconsistent structure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054600" y="1736640"/>
            <a:ext cx="72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Gill Sans"/>
              </a:rPr>
              <a:t>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187760" y="1735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dcb9"/>
                </a:solidFill>
                <a:latin typeface="Gill Sans"/>
              </a:rPr>
              <a:t>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Finer granularity in the GO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9360">
            <a:solidFill>
              <a:srgbClr val="809ea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entury Gothic"/>
              </a:rPr>
              <a:t>GO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mmune cel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ctivation, migration, chemotaxis…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rythrocyte differentiation is_a myeloid blood cell differentiation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809ea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dcb9"/>
                </a:solidFill>
                <a:latin typeface="Century Gothic"/>
              </a:rPr>
              <a:t>C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no such term: “immune cell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no such term: “myeloid blood cell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ourser granularity in the GO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9360">
            <a:solidFill>
              <a:srgbClr val="809ea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entury Gothic"/>
              </a:rPr>
              <a:t>GO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neuroblast proliferation 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</a:rPr>
              <a:t>is_a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cell proliferat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809ea8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dcb9"/>
                </a:solidFill>
                <a:latin typeface="Century Gothic"/>
              </a:rPr>
              <a:t>C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neuroblast 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</a:rPr>
              <a:t>is_a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neuronal stem cell 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</a:rPr>
              <a:t>is_a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stem cell 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</a:rPr>
              <a:t>is_a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cel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3004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d1cb"/>
                </a:solidFill>
                <a:latin typeface="Century Gothic"/>
              </a:rPr>
              <a:t>Even a “</a:t>
            </a:r>
            <a:r>
              <a:rPr b="0" lang="en-US" sz="3600" spc="-1" strike="noStrike">
                <a:solidFill>
                  <a:srgbClr val="80ff00"/>
                </a:solidFill>
                <a:latin typeface="Century Gothic"/>
              </a:rPr>
              <a:t>light</a:t>
            </a:r>
            <a:r>
              <a:rPr b="0" lang="en-US" sz="3600" spc="-1" strike="noStrike">
                <a:solidFill>
                  <a:srgbClr val="d1d1cb"/>
                </a:solidFill>
                <a:latin typeface="Century Gothic"/>
              </a:rPr>
              <a:t>” ontology like the GO is difficult enough</a:t>
            </a:r>
            <a:endParaRPr b="0" lang="en-US" sz="36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44160" y="1447920"/>
            <a:ext cx="8458200" cy="511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methodology that enforces clear, coherent definitions: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romotes quality assuranc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tent is not hard-coded into softwar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eaning of relationships is defined, not inferre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Guarantees automatic reasoning across ontologies and across data at different granulariti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onsequences of inconsistenci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Hard to synchronize manuall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consistent user-search resul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 flipV="1">
            <a:off x="3733920" y="3200040"/>
            <a:ext cx="0" cy="243828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Meeting the goal: Drawing inference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87" name=""/>
          <p:cNvSpPr/>
          <p:nvPr/>
        </p:nvSpPr>
        <p:spPr>
          <a:xfrm>
            <a:off x="1938240" y="2819520"/>
            <a:ext cx="838440" cy="304560"/>
          </a:xfrm>
          <a:prstGeom prst="ellipse">
            <a:avLst/>
          </a:prstGeom>
          <a:solidFill>
            <a:srgbClr val="90908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87480" y="2971800"/>
            <a:ext cx="533520" cy="0"/>
          </a:xfrm>
          <a:prstGeom prst="line">
            <a:avLst/>
          </a:prstGeom>
          <a:ln w="76320">
            <a:solidFill>
              <a:srgbClr val="7777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98280" y="320040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86b5d"/>
                </a:solidFill>
                <a:latin typeface="Comic Sans MS"/>
              </a:rPr>
              <a:t>hu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" y="2362320"/>
            <a:ext cx="8763120" cy="1218960"/>
          </a:xfrm>
          <a:prstGeom prst="parallelogram">
            <a:avLst>
              <a:gd name="adj" fmla="val -1373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375000" y="2819520"/>
            <a:ext cx="838080" cy="304560"/>
          </a:xfrm>
          <a:prstGeom prst="ellipse">
            <a:avLst/>
          </a:prstGeom>
          <a:solidFill>
            <a:srgbClr val="f6c8b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24240" y="2971800"/>
            <a:ext cx="533520" cy="0"/>
          </a:xfrm>
          <a:prstGeom prst="line">
            <a:avLst/>
          </a:prstGeom>
          <a:ln w="76320">
            <a:solidFill>
              <a:srgbClr val="7777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11760" y="2819520"/>
            <a:ext cx="838080" cy="304560"/>
          </a:xfrm>
          <a:prstGeom prst="ellipse">
            <a:avLst/>
          </a:prstGeom>
          <a:solidFill>
            <a:srgbClr val="f6c8b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61000" y="2971800"/>
            <a:ext cx="533520" cy="0"/>
          </a:xfrm>
          <a:prstGeom prst="line">
            <a:avLst/>
          </a:prstGeom>
          <a:ln w="76320">
            <a:solidFill>
              <a:srgbClr val="7777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48520" y="2819520"/>
            <a:ext cx="838080" cy="304560"/>
          </a:xfrm>
          <a:prstGeom prst="ellipse">
            <a:avLst/>
          </a:prstGeom>
          <a:solidFill>
            <a:srgbClr val="90908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16640" y="2514600"/>
            <a:ext cx="93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6b5d"/>
                </a:solidFill>
                <a:latin typeface="Comic Sans MS"/>
              </a:rPr>
              <a:t>SP:123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39360" y="2514600"/>
            <a:ext cx="93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6b5d"/>
                </a:solidFill>
                <a:latin typeface="Comic Sans MS"/>
              </a:rPr>
              <a:t>SP:872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88040" y="251460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6b5d"/>
                </a:solidFill>
                <a:latin typeface="Comic Sans MS"/>
              </a:rPr>
              <a:t>SP:1934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130000" y="2438280"/>
            <a:ext cx="26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6b5d"/>
                </a:solidFill>
                <a:latin typeface="Comic Sans MS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29600" y="193032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6b5d"/>
                </a:solidFill>
                <a:latin typeface="Comic Sans MS"/>
              </a:rPr>
              <a:t>PMID:555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968440" y="193032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6b5d"/>
                </a:solidFill>
                <a:latin typeface="Comic Sans MS"/>
              </a:rPr>
              <a:t>PMID:444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74880" y="47242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86b5d"/>
                </a:solidFill>
                <a:latin typeface="Comic Sans MS"/>
              </a:rPr>
              <a:t>t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280" y="3886200"/>
            <a:ext cx="8763120" cy="1219320"/>
          </a:xfrm>
          <a:prstGeom prst="parallelogram">
            <a:avLst>
              <a:gd name="adj" fmla="val -13734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98680" y="4343400"/>
            <a:ext cx="838440" cy="304920"/>
          </a:xfrm>
          <a:prstGeom prst="ellipse">
            <a:avLst/>
          </a:prstGeom>
          <a:solidFill>
            <a:srgbClr val="90908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67000" y="403848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6b5d"/>
                </a:solidFill>
                <a:latin typeface="Comic Sans MS"/>
              </a:rPr>
              <a:t>SP:4839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83880" y="624852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86b5d"/>
                </a:solidFill>
                <a:latin typeface="Comic Sans MS"/>
              </a:rPr>
              <a:t>yea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5410080"/>
            <a:ext cx="8763120" cy="1219320"/>
          </a:xfrm>
          <a:prstGeom prst="parallelogram">
            <a:avLst>
              <a:gd name="adj" fmla="val -13734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98680" y="5867280"/>
            <a:ext cx="838440" cy="304920"/>
          </a:xfrm>
          <a:prstGeom prst="ellipse">
            <a:avLst/>
          </a:prstGeom>
          <a:solidFill>
            <a:srgbClr val="90908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148280" y="6019920"/>
            <a:ext cx="533160" cy="0"/>
          </a:xfrm>
          <a:prstGeom prst="line">
            <a:avLst/>
          </a:prstGeom>
          <a:ln w="76320">
            <a:solidFill>
              <a:srgbClr val="7777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735440" y="5867280"/>
            <a:ext cx="838440" cy="304920"/>
          </a:xfrm>
          <a:prstGeom prst="ellipse">
            <a:avLst/>
          </a:prstGeom>
          <a:solidFill>
            <a:srgbClr val="90908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03280" y="556272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6b5d"/>
                </a:solidFill>
                <a:latin typeface="Comic Sans MS"/>
              </a:rPr>
              <a:t>SP:4829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63800" y="556272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86b5d"/>
                </a:solidFill>
                <a:latin typeface="Comic Sans MS"/>
              </a:rPr>
              <a:t>SP:3892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438280" y="2178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705720" y="21556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61760" y="210492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irect evid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763680" y="212256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irect evid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181480" y="3200040"/>
            <a:ext cx="0" cy="243828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60920" y="3581280"/>
            <a:ext cx="152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Indirect evid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94440" y="5105520"/>
            <a:ext cx="152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Indirect eviden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929600" y="434340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6b5d"/>
                </a:solidFill>
                <a:latin typeface="Comic Sans MS"/>
              </a:rPr>
              <a:t>PMID:897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05920" y="617220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6b5d"/>
                </a:solidFill>
                <a:latin typeface="Comic Sans MS"/>
              </a:rPr>
              <a:t>PMID:955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892120" y="6095880"/>
            <a:ext cx="109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86b5d"/>
                </a:solidFill>
                <a:latin typeface="Comic Sans MS"/>
              </a:rPr>
              <a:t>PMID:392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971800" y="4495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048120" y="6095880"/>
            <a:ext cx="30456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 flipV="1">
            <a:off x="5638320" y="609588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07200" y="314784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Hu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5000" y="467208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Xenop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9720" y="611964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rosophi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ircl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Thank you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220400" y="5638680"/>
            <a:ext cx="281772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hris Mungal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371600" y="3505320"/>
            <a:ext cx="1438200" cy="2104920"/>
          </a:xfrm>
          <a:prstGeom prst="rect">
            <a:avLst/>
          </a:prstGeom>
          <a:ln w="0">
            <a:noFill/>
          </a:ln>
        </p:spPr>
      </p:pic>
      <p:grpSp>
        <p:nvGrpSpPr>
          <p:cNvPr id="232" name=""/>
          <p:cNvGrpSpPr/>
          <p:nvPr/>
        </p:nvGrpSpPr>
        <p:grpSpPr>
          <a:xfrm>
            <a:off x="5654160" y="3581280"/>
            <a:ext cx="2289960" cy="2638800"/>
            <a:chOff x="5654160" y="3581280"/>
            <a:chExt cx="2289960" cy="2638800"/>
          </a:xfrm>
        </p:grpSpPr>
        <p:pic>
          <p:nvPicPr>
            <p:cNvPr id="233" name="" descr=""/>
            <p:cNvPicPr/>
            <p:nvPr/>
          </p:nvPicPr>
          <p:blipFill>
            <a:blip r:embed="rId2"/>
            <a:stretch/>
          </p:blipFill>
          <p:spPr>
            <a:xfrm>
              <a:off x="6248520" y="3581280"/>
              <a:ext cx="152712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5654160" y="5638680"/>
              <a:ext cx="2289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entury Gothic"/>
                </a:rPr>
                <a:t>Sima Misra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526560" y="2438280"/>
            <a:ext cx="209196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NCB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React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Ontologies and Biomedicine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ithout rigor, we won’t—</a:t>
            </a:r>
            <a:r>
              <a:rPr b="0" i="1" lang="en-US" sz="3200" spc="-1" strike="noStrike">
                <a:solidFill>
                  <a:srgbClr val="ffffff"/>
                </a:solidFill>
                <a:latin typeface="Century Gothic"/>
              </a:rPr>
              <a:t>know what we know, or where to find it, or what to infer from it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686b5d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2280" y="2057400"/>
            <a:ext cx="175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ural Langu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62920" y="3886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able Ont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40" y="3022560"/>
            <a:ext cx="9144000" cy="820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49760" y="4724280"/>
            <a:ext cx="218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ly expres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1600200"/>
            <a:ext cx="145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bigu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83640" y="4724280"/>
            <a:ext cx="20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expres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42000" y="160020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and prec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emantic Spectrum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1d1cb"/>
                </a:solidFill>
                <a:latin typeface="Century Gothic"/>
              </a:rPr>
              <a:t>Ad hoc</a:t>
            </a: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 tagging approach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et the users defined words and phras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regoes the use of an expertly curated vocabulary or ontology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Fast and distributed approach yields a vast amount of content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o recruitment and training of people to maintain the ontology is required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o recruitment and training of annotators to interpret the material is required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4960" y="9360"/>
            <a:ext cx="8077320" cy="6845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3520" y="1828800"/>
            <a:ext cx="3124080" cy="304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90440" y="1828800"/>
            <a:ext cx="8764560" cy="685800"/>
            <a:chOff x="190440" y="1828800"/>
            <a:chExt cx="8764560" cy="685800"/>
          </a:xfrm>
        </p:grpSpPr>
        <p:pic>
          <p:nvPicPr>
            <p:cNvPr id="69" name="" descr=""/>
            <p:cNvPicPr/>
            <p:nvPr/>
          </p:nvPicPr>
          <p:blipFill>
            <a:blip r:embed="rId2"/>
            <a:stretch/>
          </p:blipFill>
          <p:spPr>
            <a:xfrm>
              <a:off x="192240" y="1836720"/>
              <a:ext cx="87627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90440" y="1828800"/>
              <a:ext cx="876312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1d1cb"/>
                </a:solidFill>
                <a:latin typeface="Century Gothic"/>
              </a:rPr>
              <a:t>Ad hoc</a:t>
            </a: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 tagging approach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agging approach places the burden of interpretation and classification on every end user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verall this is </a:t>
            </a:r>
            <a:r>
              <a:rPr b="0" lang="en-US" sz="2400" spc="-1" strike="noStrike">
                <a:solidFill>
                  <a:srgbClr val="ffcc66"/>
                </a:solidFill>
                <a:latin typeface="Century Gothic"/>
              </a:rPr>
              <a:t>more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stly and wastefu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s inappropriate in the scientific domai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problem is </a:t>
            </a:r>
            <a:r>
              <a:rPr b="0" lang="en-US" sz="2800" spc="-1" strike="noStrike">
                <a:solidFill>
                  <a:srgbClr val="ffcc66"/>
                </a:solidFill>
                <a:latin typeface="Century Gothic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about people communicating. It is about computers and HCI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Build</a:t>
            </a: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, </a:t>
            </a: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pply</a:t>
            </a: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, and use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8640" y="1828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ntology captures current scientific theory that seeks to explain all of the existing evidence and is used to draw inferences and make prediction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cts like a review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equires curators who are experts in both the science and logic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ntology application is the real bottleneck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ut overall is </a:t>
            </a:r>
            <a:r>
              <a:rPr b="0" lang="en-US" sz="2400" spc="-1" strike="noStrike">
                <a:solidFill>
                  <a:srgbClr val="ffcc66"/>
                </a:solidFill>
                <a:latin typeface="Century Gothic"/>
              </a:rPr>
              <a:t>less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costly and wastefu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9:57:33Z</dcterms:created>
  <dc:creator>Suzanna Lewis</dc:creator>
  <dc:description/>
  <dc:language>en-US</dc:language>
  <cp:lastModifiedBy>Suzanna Lewis</cp:lastModifiedBy>
  <dcterms:modified xsi:type="dcterms:W3CDTF">2005-10-26T12:28:51Z</dcterms:modified>
  <cp:revision>91</cp:revision>
  <dc:subject/>
  <dc:title>Ontology and Biomedicine: Goals of the National Center for Biomedical Ontology</dc:title>
</cp:coreProperties>
</file>